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21AE-1106-4E61-AB47-35A49608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4413-F22F-4D16-9C1A-D2AB6F5E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8C6-682C-4D06-B6B4-9000C383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A78-A6AF-4FF1-B51F-00B5A1A5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667C-CFC1-4C42-82F6-608AAB97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B03B-EA71-4360-A00B-E686DBF1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BE6-7587-48CD-90C1-421039FE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C456-91EA-450C-89C1-BD86EE9A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8C8C-A194-4962-8F77-41787FDA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58E-99C4-4A2F-A3BC-7F47AC33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51A-9582-48D1-B6DB-A5977062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7E4-4846-41CD-B00B-138DC58E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BEE4-4A42-425B-939F-609F52CB0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إيحاء الله إلى رجل من البشر أمر موافق للحكمة لا محل استغراب وتعج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6386400" cy="66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968400" y="3141720"/>
            <a:ext cx="794844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1547640" y="1700280"/>
            <a:ext cx="7272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952720" y="5229360"/>
            <a:ext cx="3238560" cy="59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844640"/>
            <a:ext cx="8664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أعلم بمراد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062080" y="981000"/>
            <a:ext cx="67010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00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3357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43000" y="422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رسل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ب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رسول دج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-15840" y="866880"/>
            <a:ext cx="9159840" cy="90648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3059280" y="104760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قرآن الكريم كتاب محكم واضح م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ما اشتمل عليه من حلال وحرام وحدود وأحك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يحاء الله إلى رجل من البشر أم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وافق للحكمة لا محل استغراب وتع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بوة محمد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شرى أهل الإيمان والعمل الصال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ما أعد الله لهم من النع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دة تعجب العرب من بلاغة وفصا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رآن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صف المشركون القرآن الكريم ب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سح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642160" cy="42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8172360" y="351792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8172360" y="445464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2195640" y="2421000"/>
            <a:ext cx="533160" cy="5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7"/>
          <a:stretch/>
        </p:blipFill>
        <p:spPr>
          <a:xfrm>
            <a:off x="2166840" y="4508640"/>
            <a:ext cx="5335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5:29:29Z</dcterms:modified>
  <cp:revision>1888</cp:revision>
  <dc:subject/>
  <dc:title>عرض تقديمي في PowerPoint</dc:title>
</cp:coreProperties>
</file>